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CBE-8DB4-4A74-8498-1472483A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B3C-6678-4B8A-9A52-BC42CB4C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EB0-1FF1-4575-9FF2-557993C6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E9E-D681-4886-BBBC-56ADEA23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9A4-18D3-4F07-AC42-8087BD6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01E-578F-436F-9A95-F8594D4E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8AF-E6CB-4211-90FB-ED0C7A5F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6CA-DA2A-4BCB-9933-10E4304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020-5818-47FD-A9FD-7F00F57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067-80A2-479C-AE17-A6C24CD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4B8-3C17-4B34-9094-1FF32F3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A9E-9380-4A07-A1A1-8A1A872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753-8A11-43FB-9B93-12D3BC6DD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eif_Ericso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10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Leif Ericso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Zheng He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Christopher Columbu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286000"/>
            <a:ext cx="4800600" cy="220968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if Eric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heng He (jung HU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ristopher Columb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ge of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bms.westport.k12.ct.us/lmc/images/AgeExpMap.jpg"/>
          <p:cNvPicPr/>
          <p:nvPr/>
        </p:nvPicPr>
        <p:blipFill>
          <a:blip r:embed="rId1"/>
          <a:stretch/>
        </p:blipFill>
        <p:spPr>
          <a:xfrm>
            <a:off x="228600" y="1028880"/>
            <a:ext cx="87534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if Eric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6"/>
          <p:cNvSpPr/>
          <p:nvPr/>
        </p:nvSpPr>
        <p:spPr>
          <a:xfrm>
            <a:off x="3581280" y="152280"/>
            <a:ext cx="5416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in _______ c. 987, Son of Eric the 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sited ___________ in 999, converted to Christianity, and told by the King to convert _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overed a place in North America called 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times called the European discoverer of _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s discovery is not ____________ docum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icson's voyages did not result in continuous 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if Ericson Day – 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:Leif-Ericson-200507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457200" y="60199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Leif in front of Hallgrímskirkja, in Reykjavík, Iceland. The statue was a gift from the United States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mage:Viking at MN Capitol.jpg"/>
          <p:cNvPicPr/>
          <p:nvPr/>
        </p:nvPicPr>
        <p:blipFill>
          <a:blip r:embed="rId1"/>
          <a:stretch/>
        </p:blipFill>
        <p:spPr>
          <a:xfrm>
            <a:off x="152280" y="228600"/>
            <a:ext cx="347688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upload.wikimedia.org/wikipedia/commons/d/d3/LeifErikson1968stamp.jpg"/>
          <p:cNvPicPr/>
          <p:nvPr/>
        </p:nvPicPr>
        <p:blipFill>
          <a:blip r:embed="rId2"/>
          <a:stretch/>
        </p:blipFill>
        <p:spPr>
          <a:xfrm>
            <a:off x="914400" y="4343400"/>
            <a:ext cx="149544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upload.wikimedia.org/wikipedia/commons/a/a7/Vikings-Voyages.png"/>
          <p:cNvPicPr/>
          <p:nvPr/>
        </p:nvPicPr>
        <p:blipFill>
          <a:blip r:embed="rId3"/>
          <a:stretch/>
        </p:blipFill>
        <p:spPr>
          <a:xfrm>
            <a:off x="3008160" y="2819520"/>
            <a:ext cx="5754960" cy="393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lost-civilizations.net/images/vikings/vikingmap.gif"/>
          <p:cNvPicPr/>
          <p:nvPr/>
        </p:nvPicPr>
        <p:blipFill>
          <a:blip r:embed="rId4"/>
          <a:stretch/>
        </p:blipFill>
        <p:spPr>
          <a:xfrm>
            <a:off x="5638680" y="228600"/>
            <a:ext cx="2367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heng He (jung HU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72520"/>
            <a:ext cx="5791320" cy="643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n in ___________, c. 137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ral in the Imperial Chinese 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e seven voyages to Southeast Asia, _______, and Africa to explore and 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theory that Zheng He beat ___________ by more than _____ years in discovering America (142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434, a new ruler stopped Chinese exploration because he didn’t think China needed to have contact with other 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childbook.com/v/vspfiles/photos/AB0155-2T.jpg"/>
          <p:cNvPicPr/>
          <p:nvPr/>
        </p:nvPicPr>
        <p:blipFill>
          <a:blip r:embed="rId1"/>
          <a:stretch/>
        </p:blipFill>
        <p:spPr>
          <a:xfrm>
            <a:off x="152280" y="1828800"/>
            <a:ext cx="3059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upload.wikimedia.org/wikipedia/commons/thumb/b/bc/Zhenghemap.jpg/460px-Zhenghemap.jpg"/>
          <p:cNvPicPr/>
          <p:nvPr/>
        </p:nvPicPr>
        <p:blipFill>
          <a:blip r:embed="rId1"/>
          <a:stretch/>
        </p:blipFill>
        <p:spPr>
          <a:xfrm>
            <a:off x="228600" y="152280"/>
            <a:ext cx="4381560" cy="310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aa2sbu.org/aaezine/images/H/ZhengHeShip.jpg"/>
          <p:cNvPicPr/>
          <p:nvPr/>
        </p:nvPicPr>
        <p:blipFill>
          <a:blip r:embed="rId2"/>
          <a:stretch/>
        </p:blipFill>
        <p:spPr>
          <a:xfrm>
            <a:off x="5410080" y="7621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eb000.greece.k12.ny.us/SocialStudiesResources/Social_Studies_Resources/GHG_Documents/ZhengHe-01.03-QT100.jpg"/>
          <p:cNvPicPr/>
          <p:nvPr/>
        </p:nvPicPr>
        <p:blipFill>
          <a:blip r:embed="rId3"/>
          <a:srcRect l="0" t="0" r="0" b="25662"/>
          <a:stretch/>
        </p:blipFill>
        <p:spPr>
          <a:xfrm>
            <a:off x="3276720" y="3124080"/>
            <a:ext cx="5686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421"/>
          <p:cNvPicPr/>
          <p:nvPr/>
        </p:nvPicPr>
        <p:blipFill>
          <a:blip r:embed="rId4"/>
          <a:stretch/>
        </p:blipFill>
        <p:spPr>
          <a:xfrm>
            <a:off x="609480" y="3505320"/>
            <a:ext cx="2014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rn in 1451 near Genoa, 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nted to sail west across the __________ instead of south around Afric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didn’t know that the ____________ were between Europe and A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ain hoped to make money and spread Roman _____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1492 the ships arrived at an island in the Caribbean Sea. It is part of the present day _________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named the islands the West ________ and the people living on them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sulgravemanor.org.uk/images/christopher_columbus.jpg"/>
          <p:cNvPicPr/>
          <p:nvPr/>
        </p:nvPicPr>
        <p:blipFill>
          <a:blip r:embed="rId1"/>
          <a:stretch/>
        </p:blipFill>
        <p:spPr>
          <a:xfrm>
            <a:off x="457200" y="1905120"/>
            <a:ext cx="28576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12502" t="22001" r="45626" b="38003"/>
          <a:stretch/>
        </p:blipFill>
        <p:spPr>
          <a:xfrm>
            <a:off x="4038480" y="380988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spvocation.org/site/external/fckeditor/data/Image/FOTM/LandingofColumbus.jpg"/>
          <p:cNvPicPr/>
          <p:nvPr/>
        </p:nvPicPr>
        <p:blipFill>
          <a:blip r:embed="rId2"/>
          <a:stretch/>
        </p:blipFill>
        <p:spPr>
          <a:xfrm>
            <a:off x="0" y="3571920"/>
            <a:ext cx="4390920" cy="3286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35625" t="30000" r="46877" b="27000"/>
          <a:stretch/>
        </p:blipFill>
        <p:spPr>
          <a:xfrm>
            <a:off x="6095880" y="152280"/>
            <a:ext cx="21337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rcRect l="15000" t="24000" r="43751" b="14003"/>
          <a:stretch/>
        </p:blipFill>
        <p:spPr>
          <a:xfrm>
            <a:off x="457200" y="0"/>
            <a:ext cx="39625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10T12:48:38Z</dcterms:modified>
  <cp:revision>30</cp:revision>
  <dc:subject/>
  <dc:title>Famous People Friday</dc:title>
</cp:coreProperties>
</file>